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1B02-9044-42EB-B720-B6988F6726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D13-5F12-4883-85F5-1B0F8B066E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460-F8D3-4751-AEEE-A6707EA5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73E-6103-4D5E-9235-87EAC1C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90A-D464-4A9B-ACFA-1FC80833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69-E649-43C8-A445-803C2C3B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9B5B-C29E-42EF-8653-65415BE1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6667-A9D7-4F8D-ACBD-45E8444D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F709-6CA7-46A5-8432-B653F8F9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9209-3D24-41CC-8859-A34CB434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5099-0624-4A71-A714-98A21FDF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E385-67FB-4B8C-B5F0-160394AD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0BA6-C895-4CD2-A040-B149DC2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765-35F6-45E1-A431-9F230DB8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C4A-26AA-4FAD-B246-B23A23E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FF2-8B1A-4191-AF57-3E0EB97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AA99-6E9A-42C9-9AF8-63E6E2CD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BF7A-FD12-4CC9-B03B-D98E6266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837D-0E12-4CF0-83B0-31E81320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946-FB6D-4DAB-BA5A-A56B4EA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217-F5CA-4E9D-B23A-EEF8A53E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0EE-885E-4340-B250-E4DF25E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5EC-4CB6-4093-A684-09038493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39B-967A-4EFB-868A-D42AF0B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C9B-8E58-4F19-B27D-3E6E83F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0D6-90C9-41D7-BFD8-232B3A2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DB44-3DEA-4159-A467-1F9EDFA972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5F6-2394-46A7-9351-6A6301970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ul Secondo Ciclo – maggio 200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Prof.ssa Giuliana Sandrone Boscari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Università degli Studi di Berga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CF11-3821-4F20-854F-CDE1F453FA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l falso problema topologic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 il nodo del termine “concorrente” è stato sciolto dalla sentenza della Corte costituzionale del gennaio 2004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e senso h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iedersi “dove stanno”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cei o gli istituti IF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FAD-CD17-4095-B624-6D1882C828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18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struzione e Istruzione e Formazione Professionale (IFP) due sottosistemi interconnessi …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225160"/>
            <a:ext cx="7772400" cy="39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«istruzione»: ambito del sistema educativo contenente la scuola dell’infanzia, la scuola primaria, la scuola secondaria di I grado e i lice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«istruzione e formazione professionale»: ambito del sistema educativo a cui riferire tutta quella ricca serie di istituti di istruzione e formazione professionale, nati per corrispondere alle esigenze formative dei ragazzi dai 14 in avanti, fino alla maggiore età e poi per l’intero corso della vita, istituti non riducibili e riconducibili a lic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2EB-C2D0-44C1-ABFD-140FBA2086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it-IT" sz="2800" spc="-1" strike="noStrike">
                <a:solidFill>
                  <a:srgbClr val="ff3300"/>
                </a:solidFill>
                <a:latin typeface="Tahoma"/>
              </a:rPr>
              <a:t>nell’unico “sistema educativo di istruzione e formazione professionale” (Art. 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inalizzato «alla crescita educativa, culturale e professionale dei giovani attraverso il sapere, il fare e l'agire, e la riflessione critica su di essi», nonché allo sviluppo dell'autonoma «capacità di giudizio» e dell'esercizio «della responsabilità personale e sociale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incolo nazionale u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filo educativo, culturale e professionale dello studente alla fine del II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D28-7569-43C3-A08C-8B5DDD6DD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306360"/>
            <a:ext cx="779292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ue (sotto)sistemi dell’unico sistema educativo di istruzione e di formazione sono dichiarati dalla legge </a:t>
            </a: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complementari e interconnessi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8120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“ …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è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ssicurat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ssistita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 possibilità d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ambiare indirizzo all'interno del sistema de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ice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nonché di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ssare dal sistema dei licei 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stema dell'istruzione e della formazi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fessionale, e vicevers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mediante appo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iziative didattiche, finalizzate all'acquisizione 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a preparazione adeguata alla nuova scelta …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F0E-FB29-4788-9353-14A049308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 rot="8460000">
            <a:off x="7173360" y="5562360"/>
            <a:ext cx="168876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82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LARS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45" name=""/>
          <p:cNvSpPr txBox="1"/>
          <p:nvPr/>
        </p:nvSpPr>
        <p:spPr>
          <a:xfrm rot="19609800">
            <a:off x="352080" y="609480"/>
            <a:ext cx="168732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82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LARS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46" name=""/>
          <p:cNvSpPr txBox="1"/>
          <p:nvPr/>
        </p:nvSpPr>
        <p:spPr>
          <a:xfrm rot="2359800">
            <a:off x="7174080" y="685800"/>
            <a:ext cx="168876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82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LARS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47" name=""/>
          <p:cNvSpPr txBox="1"/>
          <p:nvPr/>
        </p:nvSpPr>
        <p:spPr>
          <a:xfrm rot="13382400">
            <a:off x="210960" y="5486040"/>
            <a:ext cx="16876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82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LARS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25360" y="838080"/>
            <a:ext cx="6858000" cy="5010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8861400" cy="640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AAA-9CCB-4A04-8C14-412703AB2C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838080" y="685800"/>
          <a:ext cx="7804080" cy="5689440"/>
        </p:xfrm>
        <a:graphic>
          <a:graphicData uri="http://schemas.openxmlformats.org/drawingml/2006/table">
            <a:tbl>
              <a:tblPr/>
              <a:tblGrid>
                <a:gridCol w="3140280"/>
                <a:gridCol w="880920"/>
                <a:gridCol w="3782880"/>
              </a:tblGrid>
              <a:tr h="196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loma di alta form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livello EC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ività professionale che prevede la padronanz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i  fondamenti scientifici della professione e d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niche gestionali finanziarie complesse nell’ambi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contesti aziendali diversificati Comporta una lar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ia e una significativa responsabilità rispet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lavoro svolto da alt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°,9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 controllo di gest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tesor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prog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loma IFP superi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V livello EC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ività professionale con rilevanti competenz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nico/scientifiche    con  livelli significativi d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tà e autonomia nelle attività d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mazione, coordinamento, amministraz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gest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°,6°, 7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nico superio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’amministrazione  e  cont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a gestione della qu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’organizzazione e gestione risorse um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88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’analisi dei flussi finanzia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loma IF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I livello EC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voro tecnico amministrativo, che può comport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i di autonomia e responsabilità rispetto 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ività di programmazione o coordinamento</a:t>
                      </a: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n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ministrativo cont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ministrativo di servizi integrati  per la  picco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  media i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fica IF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 livello EC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ività che prevede l’utilizzo di strumenti 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niche, consistente in un lavoro esecutivo, che pu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sere autonomo nei limiti delle tecniche ad e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ore/trice di servizi all’i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28600" y="31680"/>
            <a:ext cx="90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potesi di articolazione dei titoli ECTS nei processi di lavoro riferiti ai servizi all’i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BAD-AAC7-45D5-AFDF-76059D05EC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del resto  se cambia il lessico …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deve cambiare  la realtà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2286000"/>
            <a:ext cx="5334120" cy="1752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struzione liceale e magistr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struzione tec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struzione profession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rmazione professionale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52720" y="282564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10880" y="473076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572000"/>
            <a:ext cx="3581280" cy="1447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stema dell’istruzione lice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stema dell’istruzion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azione profession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495680"/>
            <a:ext cx="297180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co sistema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 istruzion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5181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73B-5822-45A6-A09A-7EBBD9B790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L’idea di CAMPUS è praticabile sul piano pedagogico se ricongiungiamo i tre concetti  di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52040" y="1956600"/>
            <a:ext cx="4601520" cy="4554720"/>
            <a:chOff x="2552040" y="1956600"/>
            <a:chExt cx="4601520" cy="4554720"/>
          </a:xfrm>
        </p:grpSpPr>
        <p:sp>
          <p:nvSpPr>
            <p:cNvPr id="161" name="_s22533"/>
            <p:cNvSpPr/>
            <p:nvPr/>
          </p:nvSpPr>
          <p:spPr>
            <a:xfrm>
              <a:off x="3144960" y="2590560"/>
              <a:ext cx="3415680" cy="32868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66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2534"/>
            <p:cNvSpPr/>
            <p:nvPr/>
          </p:nvSpPr>
          <p:spPr>
            <a:xfrm rot="7200000">
              <a:off x="3209400" y="2526120"/>
              <a:ext cx="3286800" cy="3415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2535"/>
            <p:cNvSpPr/>
            <p:nvPr/>
          </p:nvSpPr>
          <p:spPr>
            <a:xfrm rot="14400000">
              <a:off x="3209040" y="2525760"/>
              <a:ext cx="3286800" cy="3415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ff66"/>
                </a:gs>
                <a:gs pos="100000">
                  <a:srgbClr val="ffffff"/>
                </a:gs>
              </a:gsLst>
              <a:lin ang="153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22536"/>
            <p:cNvSpPr/>
            <p:nvPr/>
          </p:nvSpPr>
          <p:spPr>
            <a:xfrm>
              <a:off x="5563440" y="3046320"/>
              <a:ext cx="10418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Times New Roman"/>
                </a:rPr>
                <a:t>Téch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Times New Roman"/>
                </a:rPr>
                <a:t>f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2537"/>
            <p:cNvSpPr/>
            <p:nvPr/>
          </p:nvSpPr>
          <p:spPr>
            <a:xfrm>
              <a:off x="4332600" y="5100840"/>
              <a:ext cx="10418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Times New Roman"/>
                </a:rPr>
                <a:t>Prax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300" spc="-1" strike="noStrike">
                  <a:solidFill>
                    <a:srgbClr val="000000"/>
                  </a:solidFill>
                  <a:latin typeface="Times New Roman"/>
                </a:rPr>
                <a:t>Agire consapevo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2538"/>
            <p:cNvSpPr/>
            <p:nvPr/>
          </p:nvSpPr>
          <p:spPr>
            <a:xfrm>
              <a:off x="3101400" y="3048120"/>
              <a:ext cx="104184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Times New Roman"/>
                </a:rPr>
                <a:t>Theo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Times New Roman"/>
                </a:rPr>
                <a:t>sap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012-AF78-44C3-A82D-683895101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In base a questa imprescindibile connessione 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133720"/>
            <a:ext cx="4419720" cy="2361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ssuno può ag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non sa come agi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non ha scop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non ha modalità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3581280"/>
            <a:ext cx="4648320" cy="266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ssuno costruisce qualc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 realizza sco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non sap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 agendo responsabi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191120"/>
            <a:ext cx="1524240" cy="144756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533840" y="2476440"/>
            <a:ext cx="1295280" cy="1371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CE6-13FA-4988-8C87-9D8ADF9675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ahoma"/>
              </a:rPr>
              <a:t>Se esiste questa connessione si evitano due tipi di “separatezze” …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057400"/>
            <a:ext cx="3048120" cy="1600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paratezza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eorìa e téc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7432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286000"/>
            <a:ext cx="2209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roblema 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celta prec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191120"/>
            <a:ext cx="3200400" cy="1523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paratezza 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eorìa e téc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876920"/>
            <a:ext cx="1447560" cy="304560"/>
          </a:xfrm>
          <a:prstGeom prst="rightArrow">
            <a:avLst>
              <a:gd name="adj1" fmla="val 50000"/>
              <a:gd name="adj2" fmla="val 11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4495680"/>
            <a:ext cx="25146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ogica e te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nza etica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oci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7EF-882E-4160-82EA-4AC9C75052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e ragioni del cambiam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Normative e costituzionali (L.59/97 - DPR 275/99 - L 3/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ulturali (Vincoli europei cfr Lisbona 2000,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Sociali ed economiche (alcuni dati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1AD-A8A8-4E40-829C-4CCF74584F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410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ahoma"/>
              </a:rPr>
              <a:t>Superare il pregiudizio della quadripartizione e proporre l’idea di campus da un punto di vista culturale significa: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155320"/>
            <a:ext cx="77724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viluppare e tutelare la diversità dei percorsi formativi nel riconoscimento del loro comune carattere educativo (al servizio della persona), della loro pari dignità culturale e del loro essere complementari e interconnes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viluppare la qualità della convivenza democrat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ostenere la qualità e quantità dello sviluppo economico e soci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586-0CF6-4B04-9AA5-53F9AC0AC1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a un punto di vista pedagogico e didattico significa 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Rispettare i ruoli dei diversi soggetti che governano e realizzano il sistema educativo naz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Garantire l’unità nazionale del sistema sia pur nel rispetto dei soggetti loc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Rispettare l’autonomia delle istituzioni scolast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Inserire flessibilità didattica ed organizzativa, opzionalità, tutorato per rispondere al principio della persona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900-176E-46CB-B668-AE212A4074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La bozza di Decreto Lg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Unitarietà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Educatività di entrambi i sottosiste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Garanzia dei Larsa per i passa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orrispondenze e riconoscimento dei crediti acquisi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Unicità della se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4E7-011E-40F9-BAA9-7BBE580D4C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858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ivelli essenziali di prestazione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evisti per l’IF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Offerta form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Orientamento e Tutor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Orario minimo annu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I percorsi (competenze </a:t>
            </a:r>
            <a:r>
              <a:rPr b="0" lang="it-IT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Profil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Requisiti dei doc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Valutazione e certificazione delle competen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Strutture e serviz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Valutazione ester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0A5-F24A-4D9F-8AC5-794BB048F9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990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 lice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Durata: 2 bienni + quinto an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Specificità del quinto an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Artistico, classico, economico, linguistico, musicale e coreutico, scientifico, tecnologico, delle scienze um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Attività educative e didattiche: obbligatorie, obbligatorie opzionali, opzionali facol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D1B-5E70-41FE-A2DD-C9FB7DFC49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0666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 tre licei che si articol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20178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rtisti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rti figu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rchitettura, design,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diovisivo, multimedia, scenograf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conomi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conomico-azienda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conomico-istituziona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cnologic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meccanico e meccatroni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lettrico e elettroni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nformatico e comunicazio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mico e material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roduzioni biologiche e biotecnologie alimentar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struzioni, ambiente e terri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ogistica e traspor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cnologie tessili e dell’abbigliam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B74-0C7A-4497-BA8B-8A0BA9D44D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Qualche perplessità … n°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Ad 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iceo tecnologi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8 indirizzi + opzionalità facol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Qual è la finalità di questo percors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E’ propedeutico all’Università o 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professionalizzante o è tutte e due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Ma si possono fare bene entramb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91C-AA26-4B71-A76C-CB7F2FDCB3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802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Gli indirizzi vanno stabiliti dal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entro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rti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as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reutico-musi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cono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ingui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ienti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elle scienze uma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ecnolo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429000" y="251424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124080" y="3047760"/>
            <a:ext cx="38862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1905120"/>
            <a:ext cx="2209680" cy="1218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si artico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in indiri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00440" y="30481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4343400"/>
            <a:ext cx="1524240" cy="990720"/>
          </a:xfrm>
          <a:prstGeom prst="ellipse">
            <a:avLst/>
          </a:prstGeom>
          <a:solidFill>
            <a:srgbClr val="00e4a8"/>
          </a:solidFill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i d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334120"/>
            <a:ext cx="3048120" cy="1371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cisi dalla scu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 base ai bisogni form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i ragazzi e del terr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8F6-988A-4902-A7D4-81297403D7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  … </a:t>
            </a: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n°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2017440"/>
            <a:ext cx="81928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Orario obbligatorio     957 – 825 – 8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Orario obb. d’indirizzo  99 –  330 – 3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Orario facoltativo 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   66 –    66 -   6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otale 1° biennio 1122 </a:t>
            </a:r>
            <a:r>
              <a:rPr b="0" lang="it-IT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34 h settiman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2° biennio 1221 </a:t>
            </a:r>
            <a:r>
              <a:rPr b="0" lang="it-IT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37 h   “  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5° anno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  1221 </a:t>
            </a:r>
            <a:r>
              <a:rPr b="0" lang="it-IT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37 h   “  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FEF-0797-49A1-8670-26DA0821EE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’esperienza, dai Programmi Brocca 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i,non ha dimostrato che è oggettivame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ssibile fare attività didattiche per 36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 60 minuti? Perché perseverare nell’erro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quale personalizzazione realizzo con una risorsa così stretta di opzionale e soprattutto se opzionale significa “indirizzo professionalizzante”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2BB-C7E5-4E1E-AEB2-E4573BC975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Confronto sui livelli di istruzione secondaria superior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752480"/>
            <a:ext cx="868536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popolazione adulta nella fascia giovane d’età (25-34 anni) che ha lasciato la scuola </a:t>
            </a:r>
            <a:r>
              <a:rPr b="1" lang="en-US" sz="2000" spc="-1" strike="noStrike">
                <a:solidFill>
                  <a:srgbClr val="000099"/>
                </a:solidFill>
                <a:latin typeface="Trebuchet MS"/>
              </a:rPr>
              <a:t>senza 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un diploma d’istruzione secondaria superior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ITALIA : 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INGHILTERRA: 34%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FRANCIA: 24%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GERMANIA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11600" y="2773440"/>
          <a:ext cx="427032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1600" y="2773440"/>
                    <a:ext cx="4270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537516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l’Italia è all’ultimo posto in Europa per la percentuale di chi ha conseguito un titolo universitario: solo il 9% della popolazione adulta (25-64 anni) è laure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23040" y="6200640"/>
            <a:ext cx="167004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OCSE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46F-A485-457A-844E-B2DE7B871D6C}" type="slidenum">
              <a:t>3</a:t>
            </a:fld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it-IT" sz="3600" spc="-1" strike="noStrike">
                <a:solidFill>
                  <a:srgbClr val="ff0000"/>
                </a:solidFill>
                <a:latin typeface="Tahoma"/>
              </a:rPr>
              <a:t>n° 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corsi liceali così “affollati” come saran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legabili ad un percorso di IFP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bbiamo aspettarci un ‘ IFP “svuotata” 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utta l’esperienza degli istituti tecnici 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fessionali quinquennal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E8A-C659-4013-A4C3-F9C0688A86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838080"/>
            <a:ext cx="5257800" cy="4038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sistema dei  licei “gonfia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quale confluiscono tutti i Licei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attuali istituti tecnic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tutti  i loro indiriz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tituti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nquen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6088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68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 è forse un modello in continuità con il passato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286000"/>
            <a:ext cx="2819520" cy="3657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P “ristrett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l quale confluisc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i attuali istituti profession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ennali e quadrienna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uanti sono ancor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ess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94E-B69A-4E6D-890E-25B29807AC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Ma 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 regioni ci stann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quali vantaggi al mondo sociale 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nomic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quale adeguamento all’Europ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3D2-F9C5-4C28-A886-2E8521DC88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20200" y="3132000"/>
            <a:ext cx="365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QUALE CUL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ER I LICEI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C48-3729-40CB-BC95-86691C8844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51460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inguisticit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3276720"/>
            <a:ext cx="6400800" cy="1557000"/>
          </a:xfrm>
          <a:prstGeom prst="rect">
            <a:avLst/>
          </a:prstGeom>
          <a:noFill/>
          <a:ln w="63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fatto linguistico è di tutte le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è solo tecnica è un rapporto corretto tra parola  e cosa, cioè un rapporto adeguato tra soggetto  e rea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7621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e caratteristiche dell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pprofondita nei lic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41B-425F-4DE2-AA3D-2E97D4928FF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371600" y="5335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alogicità del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cetto di scienza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981080"/>
            <a:ext cx="7559640" cy="3385800"/>
          </a:xfrm>
          <a:prstGeom prst="rect">
            <a:avLst/>
          </a:prstGeom>
          <a:noFill/>
          <a:ln w="633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scienze um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n sono meno esatte delle cosiddette scienze es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plicemente cambiano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 condizio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affermare la certezza del proprio sa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cientificità è quindi il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ndere rag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la realtà più delle proprie proie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onestà intellettu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approccio rigoroso (negli strumenti e nel linguaggio) nei confronti dei differenti oggetti della rea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1EB-794F-4E87-BA1D-5201F0DA27E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828800" y="8380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ità della cultura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1203480" y="2057400"/>
            <a:ext cx="7254720" cy="2288520"/>
          </a:xfrm>
          <a:prstGeom prst="rect">
            <a:avLst/>
          </a:prstGeom>
          <a:noFill/>
          <a:ln w="66600">
            <a:solidFill>
              <a:srgbClr val="99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la realtà è una, pur nella diversità, ogni dimensione del reale sarà presente nelle diverse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i può fare esperienza scientifica a prescindere dalla correttezza linguistica, dalla dimensione storica o da quella este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la logica dell’</a:t>
            </a:r>
            <a:r>
              <a:rPr b="0" lang="en-US" sz="2400" spc="-1" strike="noStrike">
                <a:solidFill>
                  <a:srgbClr val="9900ff"/>
                </a:solidFill>
                <a:latin typeface="Kristen ITC"/>
              </a:rPr>
              <a:t>OL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25099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1C6-0C28-4B37-AB55-AEEE01B05C0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1219320"/>
            <a:ext cx="4724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terdisciplinarietà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590920"/>
            <a:ext cx="6873840" cy="1922760"/>
          </a:xfrm>
          <a:prstGeom prst="rect">
            <a:avLst/>
          </a:prstGeom>
          <a:noFill/>
          <a:ln w="507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oluzione dei problemi implica la mobilitazion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verse prospettive discipli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terdisciplinarietà implica però 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entral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disciplina, che non deve essere intac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deve essere potenz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EF7-22BB-4CE4-9BF7-777DA2B7715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371600" y="725400"/>
            <a:ext cx="5410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oricità e storicizzazion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209680"/>
            <a:ext cx="7483320" cy="19227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disciplina ha anche u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a ‘storia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erché è nata, quando è nata, mutuando quali sch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siasi ambito disciplin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arricchisce di sen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do viene posto all’interno dello sfondo storico che ne descrive il nascere e il dive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BCF-9A04-4C2E-B468-9387B072FA3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497800" cy="3770280"/>
          </a:xfrm>
          <a:prstGeom prst="rect">
            <a:avLst/>
          </a:prstGeom>
          <a:noFill/>
          <a:ln w="54000">
            <a:solidFill>
              <a:srgbClr val="ff66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a dimensione costituisce la sintesi critica e organizzata di tutte le preced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manda alla originaria problematicità del reale, agli interrogativi esistenziali, alle visioni del mondo che ciascuno custodisce ed elab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3C8-C9B7-4FCC-812B-CCE7A43650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20680" y="126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rebuchet MS"/>
              </a:rPr>
              <a:t>Formazione in alternanza in alcuni paesi europei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2133720"/>
          <a:ext cx="889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89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520" y="6172200"/>
            <a:ext cx="1066680" cy="2286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CS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L RAPPORTO SCUOLA-MONDO DEL LAVORO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22F-8A49-4EED-AF59-1FDB937DCB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l cambiamento necess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lle conoscenze e dalle abilità alle competenze person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lla separazione disciplinare (i saperi) alla connessione unitaria del  sape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77E-AB60-4B1C-B4E4-AC4C5AF605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er approfondire il discorso 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. Bertagna 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La scommessa del secondo ciclo. L’idea del campus tra “norme generali”, “livelli essenziali di prestazione” (LEP), e “standard minimi formativi”(SMF)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in “Nuova Secondaria”, n. 3, 15 novembre 2004, anno XXII, pp. 109-128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d.,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Centralità della formazione e significato del campus nella riforma del secondo ciclo di istruzione e di form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in “Scuola e didattica”, n. 15, 15 aprile 2005, an. I, pp. 47-6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al paradigma servile al paradigma signorile. Per un recupero del valore dell’istruzione e formazione professionale”, in AA.VV. “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struzione formazione lavoro: una filiera da (ri)costruire. L’esperienza lombarda e la sfida della riform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”, Franco Angeli, Milano 2003, pp. 39-5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A.VV.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“Alternanza scuola lavoro. Ipotesi, modelli, strumenti dopo la riforma Moratti”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CISEM-Franco Angeli, Milano 200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 Scotto di Luzi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 filosofi e i contadini. Per una storia dell’Istruzione Professionale nell’Italia contemporanea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. 2-3-4-5, anno XXI, 2003-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56C-E1C8-4423-B78A-85323C2E5A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lcuni dati per riflettere 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ebito pubblico italia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980 =  6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990 =  97,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994 = 123,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004 = 104,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Vale a dire: ogni 100 di valore prodo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vo calcolare 104,8 per il debito da estingu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asso di occupazion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edia UE 6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Usa 7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talia  5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Ultracinquantenni inattivi in Italia 60%, in Francia 47%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 Usa 4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0D2-EA5C-4FD1-B4E9-4E039AF12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990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umento della produzione industriale dal 1995 al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a 2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ancia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ermania 1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talia 4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 spesa pubblica itali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ll’inizio del ‘900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lla fine del fascismo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el 1993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5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el 2004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A89-5436-484D-AD35-FD5903F541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858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Dati Cnvsu sull’Università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avoratori laure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 livello europeo 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 Italia 16% di c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ttore attinente  3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aurea generica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2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aurea non richiesta  32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rché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a noi non esiste il diploma di istruzione e formazione professionale superiore, in Europa equivalente alla laurea universit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aureati i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gegneria 16%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26% media 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atematica, statistica 5,5%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4% media 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C38-CBEF-4B2D-A6F6-32E6CEF74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nel 2002 hanno ottenuto la laurea quadrien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17% in Ita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14% in Fr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13% in U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2,5% nel Regno Uni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Previsione di assunzione per il 2004 in Ita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673.000 nell’impresa (dati Ministero del lavoro-Unioncamere) di cu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41% con titolo di sec I gr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29% istituto tec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21% istituto professionale/quali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Tahoma"/>
              </a:rPr>
              <a:t>8% laure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9B6-F3D1-4894-9F61-1239C18D6E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837720"/>
            <a:ext cx="577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l secondo ciclo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istema dei lic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22860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685800"/>
            <a:ext cx="3200400" cy="26668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legislazion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 Stato e Reg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 esclusione 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rme general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 d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rincip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i compe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sclusiv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llo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894120"/>
            <a:ext cx="92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istema di istruzione e formazione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4419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800600"/>
            <a:ext cx="4572000" cy="20574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legislazione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esclu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lle Reg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d eccezione de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Lep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i compe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esclusiv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ello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1F5-089F-4943-9A56-FA9C9E26AC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fault</cp:lastModifiedBy>
  <dcterms:modified xsi:type="dcterms:W3CDTF">2005-05-11T19:43:5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